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0E4C-3A1E-4F29-A41E-F8D29F6EF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EC6C-225A-4E14-9751-19F2B1A1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084D-4EA2-40D9-8D25-379D2CAF5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FFC9-F169-48A0-AD2F-A906CA451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F632-8CEF-4909-B8B4-19BFA91A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5E82-ACDC-49C9-B5CA-FDDEFDCC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A366-1D2A-4930-9E4D-FBB69EC0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53BB-56C5-4894-8BC1-159EE944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A312-AC64-468D-96CD-0A309E96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066F-F5A1-4CDE-A7A4-FC956D05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5CF2-D90B-4131-8EBC-FD1AABC4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968E-F4B4-4C71-9F64-3B1BE5B4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81AF-DF68-4148-BC13-14F39DACA6A3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1.4 Sociology Part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6408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Karl Mar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1332000" y="1319040"/>
            <a:ext cx="64800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ymbolic Interactio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ymbolic Interactionists believe humans have complex brains and little instinctive behavi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is means they can interpret for themselves the stimuli they receive in their daily life and attach their own meanings to them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ymbolic Interactio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g. One person might pursue fame and fortune  while a sibling might dedicate his or her life to charitable work in a developing count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t is essentially how we as individuals process and interpret what we observe in society, not society’s institutions, that form the core of our value syste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ymbolic Interactio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or this reason, Symbolic Interactionists focus their research on the human mind rather than on structures in soc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Femi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eminist Theorists focus on sex and gender issues, believing that women have traditionally been disadvantaged in society because men have discriminated against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y believe that men have made the decisions in society and that they tend to favour m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Liberal Femi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Calibri"/>
              </a:rPr>
              <a:t>Liberal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(or “Bourgeois”)</a:t>
            </a:r>
            <a:r>
              <a:rPr b="0" i="1" lang="en-CA" sz="3200" spc="-1" strike="noStrike">
                <a:solidFill>
                  <a:srgbClr val="000000"/>
                </a:solidFill>
                <a:latin typeface="Calibri"/>
              </a:rPr>
              <a:t> Feminism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, in which the claim of women for equal rights is seen in the context of a general opposition to various forms of oppression and discrimination, independently of other political convictions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Liberal Femi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iberal feminism tends to emphasize social policy to open up professional, better-paid and prestigious jobs to women and the elimination of laws discriminating against the political, property and social rights of wom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Marxian Femi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arxian Feminists believe that women’s unpaid  and undervalued domestic work has made it possible for industrial owners to pay lower wages to male workers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y also believe that the continuation of lower paid jobs has enabled the dominant class (the capitalists) to retains their cont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Radical Femi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adical Feminists believe that their natural child bearing role has led to a systematic oppression by 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ey believe they live in a patriarchal society in which men dominate most of the institutions and are so entrenched that women cannot break in to these fie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1116000" y="590400"/>
            <a:ext cx="7402680" cy="60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chools of Thought in Soci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ociologists have debated among themselves about the real nature of socie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s societies change and become more diverse sociologists need to consider cultural diversity when considering sociological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ocialist Femi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ocialist Feminists try to separate issues of oppression that are the result of the patriarchy which is a result of capitalis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f capitalism were overthrown, to what extent would female oppression continu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Inclusio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clusionists recognized that conflict could take place in a society between ethnic, racial and religious groups as well as between economic cl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efore WWII, most sociologists took an assimilationist view of race believing the cultural majority would eventually absorb the minority (melting po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Inclusio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 the late 1960s however, changing immigration policies changed all this as large numbers of immigrants moved to places like Canada to l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Review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g 34-3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6551640" cy="585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tructural-Function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ccording to structural-functionalism, each society should provide its members with the fundamental requirements for function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 system must have a way of fulfilling material needs, a system for socializing and educating the young, a way of regulating human reproduction (usually marriag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tructural-Function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tructural-Functionalists believe their role is to try to explain the role of society’s systems in enabling human society to fun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tructural-Functionalists do not concern themselves with change but instead with how society works to meet their n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1476360" y="404640"/>
            <a:ext cx="612000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Neo-Marx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ased on ideas originally proposed by Karl Marx (1818-1883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arx believed that economic power led to political power.  This is the key to understanding socie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Neo-Marx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struggle for economic power means that society is not static but ever-changing – social change is the result of a change made to the economic syste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refore, if we want to understand society, we must understand the economic system in pla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Neo-Marx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Neo-Marxists believe the economic system creates a rich class of owners and a poor class of work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y also believe that social institutions (churches, schools, prisons etc.) have been created to perpetuate the division between the powerful and the power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8:45:13Z</dcterms:created>
  <dc:creator>Jason</dc:creator>
  <dc:description/>
  <dc:language>en-US</dc:language>
  <cp:lastModifiedBy>Jason</cp:lastModifiedBy>
  <dcterms:modified xsi:type="dcterms:W3CDTF">2010-09-15T19:18:53Z</dcterms:modified>
  <cp:revision>4</cp:revision>
  <dc:subject/>
  <dc:title>1.4 Sociology Part II</dc:title>
</cp:coreProperties>
</file>